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ED2-7319-4EC4-B419-FAAD2EE1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268496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3F1-CBEA-468E-A284-FB25C89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770-D896-4C79-8991-0F37625C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C1E-89A5-4057-9F31-3E225559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D14-9D68-4E3D-9217-F60BEF7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998-1A0E-4049-BFE6-F94C883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360-F31B-4CAC-A320-3EA114A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B3D-840A-4821-A76E-46BDDC3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878040"/>
            <a:ext cx="3950352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C78-BF6B-42E6-9041-49BBB16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8E5-12CA-4893-8BD7-DEBAFD4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598-851E-44A1-BB9E-338334C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F38-C1F5-428F-A2A7-6F11AF1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 fontScale="85000"/>
          </a:bodyPr>
          <a:p>
            <a:pPr marL="1199520" indent="-119952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99936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3996720" indent="-79884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5595480" indent="-79992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19984680"/>
            <a:ext cx="102427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19984680"/>
            <a:ext cx="139003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19984680"/>
            <a:ext cx="102427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88D-1AED-47C1-BF05-665C34FD1E00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>
            <a:off x="0" y="3149640"/>
            <a:ext cx="438912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64960"/>
            <a:ext cx="43891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1" lang="en-US" sz="7800" spc="-1" strike="noStrike">
                <a:solidFill>
                  <a:srgbClr val="ffffff"/>
                </a:solidFill>
                <a:latin typeface="Verdana"/>
              </a:rPr>
              <a:t>Synthesis Of Propionic Acid from Synga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Sabah Basrawi, Alex Guerrero, Mrunal Patel, Kevin Thomps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University of Illinois at Chica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6939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Descrip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85800" y="4348080"/>
            <a:ext cx="94489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8658360"/>
            <a:ext cx="1035828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3532920" y="1161900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33520" y="9354960"/>
            <a:ext cx="9753480" cy="75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3451920" y="12415680"/>
            <a:ext cx="10439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own information here. Remember, you can change the template colors to suit your own tas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6336800" y="3693960"/>
            <a:ext cx="1035864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Flow Diagra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1201400" y="987732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lant Layou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1277720" y="10726560"/>
            <a:ext cx="10210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183243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533520" y="19108800"/>
            <a:ext cx="9448560" cy="41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15320880"/>
            <a:ext cx="10358280" cy="52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Design Bas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57200" y="16016400"/>
            <a:ext cx="975348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33532920" y="36939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3527880" y="43909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the template is only to get you started, and can be changed to suit your uniqu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33532920" y="8831160"/>
            <a:ext cx="10358280" cy="52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Uses of Propionic Aci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33527880" y="95137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the template is only to get you started, and can be changed to suit your uniqu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33532920" y="1871028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33527880" y="194659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own information here. Remember, you can change the template colors to suit your own tas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2097880" y="9877320"/>
            <a:ext cx="1035864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Floor Pl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2097880" y="10659960"/>
            <a:ext cx="103633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920" y="21328200"/>
            <a:ext cx="438912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6:31:58Z</dcterms:created>
  <dc:creator>Cindy Kranz</dc:creator>
  <dc:description>1-800-347-2744</dc:description>
  <dc:language>en-US</dc:language>
  <cp:lastModifiedBy>Kevin Thompson</cp:lastModifiedBy>
  <dcterms:modified xsi:type="dcterms:W3CDTF">2011-04-06T18:23:42Z</dcterms:modified>
  <cp:revision>18</cp:revision>
  <dc:subject/>
  <dc:title>Style J 24 by 48</dc:title>
</cp:coreProperties>
</file>